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768-20B0-4795-9511-44F981F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551-450D-4656-9917-C6B1CA0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75A-EFD9-46FB-A8A1-B16C6DA8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894-D19E-4632-B7F5-C4B7DF01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43C-19FA-46A4-A79D-798882B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7DA-693F-4575-AB41-9DEDBAA3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37B-DA74-44CB-AF92-B8D7D9F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3C0-6E3F-4ADD-ABC9-4C86104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35-B112-4DD9-897F-5FA83989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F29-70CD-4F28-B9EA-A349BD1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7FA-A0E4-4FF2-A7B6-F9E8D7D1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D89-3859-4039-B17D-B873A8C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0E4-C379-4180-9950-D9C33E20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of The Old Man and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 and the Sea is a epic story about the fight between an old man named Santiago and his fight with a large marl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3 days he catches the marlin, but fails to bring any of the meat in because of the sharks ate i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emingway%2520old%2520man%2520current"/>
          <p:cNvPicPr/>
          <p:nvPr/>
        </p:nvPicPr>
        <p:blipFill>
          <a:blip r:embed="rId1"/>
          <a:stretch/>
        </p:blipFill>
        <p:spPr>
          <a:xfrm>
            <a:off x="5791320" y="4162320"/>
            <a:ext cx="16952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The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de is shown in the Old Man in the Sea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ravels far to sea to catch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still fishing as an old man and doesn’t give up in 85 days with no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eels sympathy for the fish when the sharks destroy it and his pride makes him think he shouldn’t have even caught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hasn’t had much success lately in the novel (84 days), but he remains hop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tches the big fish a finds himself successful and feels very accomplis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sad that his success is so short-lived as the sharks take the meat off of the fish, so he can not sell the fish at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o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is a hero to Manolin because he has taught Manolin all he knows about f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has heroic strength to continue 3 days without stopping, and end up catching the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ngway, Ernest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New York: Charles Scribner's Sons, 1980. Pr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19:38Z</dcterms:created>
  <dc:creator>dcsuser</dc:creator>
  <dc:description/>
  <dc:language>en-US</dc:language>
  <cp:lastModifiedBy>FISHER</cp:lastModifiedBy>
  <dcterms:modified xsi:type="dcterms:W3CDTF">2012-03-07T03:35:57Z</dcterms:modified>
  <cp:revision>8</cp:revision>
  <dc:subject/>
  <dc:title>Slide 1</dc:title>
</cp:coreProperties>
</file>